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75A2-C29D-4D9B-82E4-ED0384185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2FE6-C6B9-40F9-9592-326E3401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9E0E-962B-4EAC-91E3-C50E70DC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CFA1-373E-45E4-A1C3-A0967C873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69F7-5DD5-47A3-93DD-C4A9B33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F091-C12F-4871-A050-5E0A927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9C2C-B722-4E7A-A56D-4C1EDA86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A8BD-2E9F-49A6-A3B2-DC04ED23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421A-79E9-439F-B513-78A8E947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26B8-3F6D-441A-AC1A-9D801853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304C-57D5-4587-BC42-6D831C1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C954-CE79-440A-9BF3-FD935C20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0531_200606141645291"/>
          <p:cNvPicPr/>
          <p:nvPr/>
        </p:nvPicPr>
        <p:blipFill>
          <a:blip r:embed="rId2"/>
          <a:stretch/>
        </p:blipFill>
        <p:spPr>
          <a:xfrm>
            <a:off x="0" y="4294080"/>
            <a:ext cx="9144000" cy="230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1Y9(NN~{}TY~~VUJ%[XMH7"/>
          <p:cNvPicPr/>
          <p:nvPr/>
        </p:nvPicPr>
        <p:blipFill>
          <a:blip r:embed="rId3"/>
          <a:stretch/>
        </p:blipFill>
        <p:spPr>
          <a:xfrm>
            <a:off x="0" y="6488280"/>
            <a:ext cx="9144000" cy="395280"/>
          </a:xfrm>
          <a:prstGeom prst="rect">
            <a:avLst/>
          </a:prstGeom>
          <a:ln w="0">
            <a:noFill/>
          </a:ln>
        </p:spPr>
      </p:pic>
      <p:sp>
        <p:nvSpPr>
          <p:cNvPr id="2" name="WordArt 4"/>
          <p:cNvSpPr txBox="1"/>
          <p:nvPr/>
        </p:nvSpPr>
        <p:spPr>
          <a:xfrm>
            <a:off x="5511960" y="6165720"/>
            <a:ext cx="3381120" cy="2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Jishou Universit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8209080" y="6524280"/>
            <a:ext cx="900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340-8416-4DA4-B503-3B6D268FE838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YSCH$Q[UK1]}6$U9LT0O0UV"/>
          <p:cNvPicPr/>
          <p:nvPr/>
        </p:nvPicPr>
        <p:blipFill>
          <a:blip r:embed="rId4"/>
          <a:stretch/>
        </p:blipFill>
        <p:spPr>
          <a:xfrm>
            <a:off x="0" y="0"/>
            <a:ext cx="9144000" cy="105732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DD57-19EB-42FF-92C5-A3A8D18E2E8E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D47B-FB80-4BD3-88C1-5A36AF92F48F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7200" y="195588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目预算编制包括中央财政专项资金的支出部分和配套资金，即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中央：地方：学校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7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10A3-180F-430B-B06D-6510B2F3A4A8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043-AC3B-4607-86E0-146713C6A71A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195588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预算内容主要包括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第一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表格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按照财教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文件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附件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表格格式填写（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即附表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1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2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3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4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由实验室与设备管理中心统一发邮件给相关项目单位负责人，各项目单位在此表上修改，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必须在此表申报的设备范围内进行优化遴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未经同意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不得随意变更或增加一些新的设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F45F-F6C4-4669-B8C4-2B793BC2EAAC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5EEC-8C99-4068-B1A7-71F58C1307D4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第二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文字说明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主要说明预算编制依据，内容包括以下几个方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字左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）建设依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学科发展、科学研究、实验教学等需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建设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主要建设的实验分室或模块，主体建设或购置的设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三）资金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中央财政、地方财政、学校自筹资金数量及比例及用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3E4D-F05F-4D14-A3FE-B40535CF2568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AFCF-B1B9-41C9-9B54-AAB98BD43E68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177336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预算编制依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）购置设备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1480" y="2852640"/>
          <a:ext cx="7958160" cy="3273480"/>
        </p:xfrm>
        <a:graphic>
          <a:graphicData uri="http://schemas.openxmlformats.org/drawingml/2006/table">
            <a:tbl>
              <a:tblPr/>
              <a:tblGrid>
                <a:gridCol w="654120"/>
                <a:gridCol w="1042920"/>
                <a:gridCol w="1982880"/>
                <a:gridCol w="609480"/>
                <a:gridCol w="846000"/>
                <a:gridCol w="797040"/>
                <a:gridCol w="2025720"/>
              </a:tblGrid>
              <a:tr h="5666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规格、型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台套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单价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总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询价依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92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92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 gridSpan="3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0" name="圆角矩形标注 5"/>
          <p:cNvSpPr/>
          <p:nvPr/>
        </p:nvSpPr>
        <p:spPr>
          <a:xfrm>
            <a:off x="644400" y="4076640"/>
            <a:ext cx="1335240" cy="1656000"/>
          </a:xfrm>
          <a:prstGeom prst="wedgeRoundRectCallout">
            <a:avLst>
              <a:gd name="adj1" fmla="val 18199"/>
              <a:gd name="adj2" fmla="val -78601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必须跟附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-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顺序对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标注 6"/>
          <p:cNvSpPr/>
          <p:nvPr/>
        </p:nvSpPr>
        <p:spPr>
          <a:xfrm>
            <a:off x="2484360" y="4076640"/>
            <a:ext cx="1366920" cy="1368360"/>
          </a:xfrm>
          <a:prstGeom prst="wedgeRoundRectCallout">
            <a:avLst>
              <a:gd name="adj1" fmla="val -3648"/>
              <a:gd name="adj2" fmla="val -8916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供规格型号及主要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标注 7"/>
          <p:cNvSpPr/>
          <p:nvPr/>
        </p:nvSpPr>
        <p:spPr>
          <a:xfrm>
            <a:off x="457200" y="3357720"/>
            <a:ext cx="8507520" cy="2374920"/>
          </a:xfrm>
          <a:prstGeom prst="wedgeRoundRectCallout">
            <a:avLst>
              <a:gd name="adj1" fmla="val 24962"/>
              <a:gd name="adj2" fmla="val -59583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为重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设备：对于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万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上的大型设备，应提供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可行性论证报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设备选型说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同类仪器不同品牌型号的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价格比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定价说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万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下的同类型设备可成批次说明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预算依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询价或定价依据的说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同类设备近期采购价格或市场价格等。每台设备提供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以上公司的价格和联系方式，最后进行定价说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书：说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定价依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如近期学校图书采购均价或市场询价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软件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说明软件开发平台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市场定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开发的工作量测算，人工成本及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核算依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标注 9"/>
          <p:cNvSpPr/>
          <p:nvPr/>
        </p:nvSpPr>
        <p:spPr>
          <a:xfrm>
            <a:off x="2124000" y="6019920"/>
            <a:ext cx="3959280" cy="288720"/>
          </a:xfrm>
          <a:prstGeom prst="wedgeRoundRectCallout">
            <a:avLst>
              <a:gd name="adj1" fmla="val 79217"/>
              <a:gd name="adj2" fmla="val -6412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设备总经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项目总经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*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48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712A-8FB3-4CF5-AE1B-5553C213C498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3DE-9245-4678-89F2-58F5E661C4B6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77336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环境改造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49520"/>
          <a:ext cx="8229600" cy="3400560"/>
        </p:xfrm>
        <a:graphic>
          <a:graphicData uri="http://schemas.openxmlformats.org/drawingml/2006/table">
            <a:tbl>
              <a:tblPr/>
              <a:tblGrid>
                <a:gridCol w="1603440"/>
                <a:gridCol w="1603440"/>
                <a:gridCol w="1214280"/>
                <a:gridCol w="1214640"/>
                <a:gridCol w="1039680"/>
                <a:gridCol w="1039680"/>
                <a:gridCol w="514440"/>
              </a:tblGrid>
              <a:tr h="85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实验分室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改造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计算标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单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数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金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小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26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计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万元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" name="圆角矩形标注 8"/>
          <p:cNvSpPr/>
          <p:nvPr/>
        </p:nvSpPr>
        <p:spPr>
          <a:xfrm>
            <a:off x="2195640" y="4653000"/>
            <a:ext cx="3816360" cy="431640"/>
          </a:xfrm>
          <a:prstGeom prst="wedgeRoundRectCallout">
            <a:avLst>
              <a:gd name="adj1" fmla="val 111750"/>
              <a:gd name="adj2" fmla="val 213393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环境改造经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项目总经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*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9360" y="11970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3C63-AC19-4EF6-B775-2E029DA1886D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5BF3-85F0-480A-AD82-F259C75C9AB2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77336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目资金管理措施与预期效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）项目资金管理措施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见模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预期绩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必须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具体、明确、量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主要以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教学科研效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主要阐述面向哪些专业、服务学生人数、开设实验课程、开设实验项目数及技能培养等方向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700" spc="-1" strike="noStrike">
                <a:solidFill>
                  <a:srgbClr val="0000ff"/>
                </a:solidFill>
                <a:latin typeface="Arial"/>
              </a:rPr>
              <a:t>可以从以下几个方面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进行论述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新增设备台套数，总经费是多少，达到什么程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实验项目数：新增设计性实验项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个，综合性实验项目 个，创新实验项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个，改进实验项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服务学生数：学生科研、开放，研究性、创新性项目开展情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校内开放情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科研产出的预期效益：如培养研究生、发表论文、申报课题，建设平台等方面的效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社会效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主要阐述为</a:t>
            </a:r>
            <a:r>
              <a:rPr b="0" lang="zh-CN" sz="1700" spc="-1" strike="noStrike">
                <a:solidFill>
                  <a:srgbClr val="0000ff"/>
                </a:solidFill>
                <a:latin typeface="Arial"/>
              </a:rPr>
              <a:t>地方服务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产生的效益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xlc</cp:lastModifiedBy>
  <dcterms:modified xsi:type="dcterms:W3CDTF">2016-05-26T09:59:32Z</dcterms:modified>
  <cp:revision>1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