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7AB3-A87E-44F1-BCD3-23B428F3C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117C-C7E7-4B89-98FE-AA7994B4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2CD6-1873-4BE1-B773-06238B8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3A351-C1AF-4B48-AB74-3B3B2F6972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4E45-2139-4CF4-82D6-2B8E45AC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5E82-E0A7-45E4-A99D-E2AB778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7AE6-3F94-478F-940E-E191C399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C9E7-FA2F-42CA-AD70-CDFB1E62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6505-B949-408C-9FC0-9A98614F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E8D4-38BE-41C0-9EE0-71A739AE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FADA-A4B3-40F6-AD65-49B9B4CC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BE58-15CE-4353-88A6-7FB5DD5E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0531_200606141645291"/>
          <p:cNvPicPr/>
          <p:nvPr/>
        </p:nvPicPr>
        <p:blipFill>
          <a:blip r:embed="rId2"/>
          <a:stretch/>
        </p:blipFill>
        <p:spPr>
          <a:xfrm>
            <a:off x="0" y="4294080"/>
            <a:ext cx="9144000" cy="230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1Y9(NN~{}TY~~VUJ%[XMH7"/>
          <p:cNvPicPr/>
          <p:nvPr/>
        </p:nvPicPr>
        <p:blipFill>
          <a:blip r:embed="rId3"/>
          <a:stretch/>
        </p:blipFill>
        <p:spPr>
          <a:xfrm>
            <a:off x="0" y="6488280"/>
            <a:ext cx="9144000" cy="395280"/>
          </a:xfrm>
          <a:prstGeom prst="rect">
            <a:avLst/>
          </a:prstGeom>
          <a:ln w="0">
            <a:noFill/>
          </a:ln>
        </p:spPr>
      </p:pic>
      <p:sp>
        <p:nvSpPr>
          <p:cNvPr id="2" name="WordArt 4"/>
          <p:cNvSpPr txBox="1"/>
          <p:nvPr/>
        </p:nvSpPr>
        <p:spPr>
          <a:xfrm>
            <a:off x="5511960" y="6165720"/>
            <a:ext cx="3381120" cy="28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Jishou University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303E-EF4D-4E26-A217-1AF3DD1BA97D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8209080" y="6524280"/>
            <a:ext cx="9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B075-FA4E-43AA-9A2E-5999E4B874A9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YSCH$Q[UK1]}6$U9LT0O0UV"/>
          <p:cNvPicPr/>
          <p:nvPr/>
        </p:nvPicPr>
        <p:blipFill>
          <a:blip r:embed="rId4"/>
          <a:stretch/>
        </p:blipFill>
        <p:spPr>
          <a:xfrm>
            <a:off x="0" y="0"/>
            <a:ext cx="9144000" cy="105732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日期占位符 3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C0C4-F657-44A4-A6E0-1BC9D958E4AD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4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2FDF-5B2E-4795-862D-D16E4BD4DE43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10531_200606141645291"/>
          <p:cNvPicPr/>
          <p:nvPr/>
        </p:nvPicPr>
        <p:blipFill>
          <a:blip r:embed="rId1"/>
          <a:stretch/>
        </p:blipFill>
        <p:spPr>
          <a:xfrm>
            <a:off x="36360" y="4221000"/>
            <a:ext cx="9144000" cy="2303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6453360"/>
            <a:ext cx="918036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79280" y="1628640"/>
            <a:ext cx="90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吉首大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20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中央财政支持地方高校发展专项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资金项目预算编制及实施工作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131840" y="3932280"/>
            <a:ext cx="7128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34fc9"/>
                </a:solidFill>
                <a:latin typeface="Arial"/>
                <a:ea typeface="宋体"/>
              </a:rPr>
              <a:t>实验室与设备管理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34fc9"/>
                </a:solidFill>
                <a:latin typeface="Times New Roman"/>
                <a:ea typeface="宋体"/>
              </a:rPr>
              <a:t>201</a:t>
            </a:r>
            <a:r>
              <a:rPr b="0" lang="en-US" sz="2000" spc="-1" strike="noStrike">
                <a:solidFill>
                  <a:srgbClr val="b34fc9"/>
                </a:solidFill>
                <a:latin typeface="Times New Roman"/>
                <a:ea typeface="宋体"/>
              </a:rPr>
              <a:t>5.5.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754F-9EC7-4DB7-B890-AF333DFBB0DE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34D5-6317-4C2E-B5B3-BD6F41FFF158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督查小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组  长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赵鹤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成  员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校纪检、监察、财务、审计等部门负责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主要职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财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2010]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号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湖南省实施中央财政支持地方高校发展专项资金项目的指导性意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等文件的要求，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对项目资金拨付、经费使用、项目验收等环节实施全程监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督促各项目建设单位严格依据预算制定经费使用计划，严格按照国家有关规定使用项目资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503D-10D3-4335-A805-16E27CA2FA42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ED53-2862-42B4-877A-876641AA9C79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指导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9558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认真贯彻落实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中央财政支持地方高校发展专项资金管理办法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，按照高等教育改革发展、湖南省建设教育强省和《武陵山片区区域发展和扶贫攻坚规划》的总体要求，紧紧围绕学校转型发展的目标，以学科建设为龙头，以人才培养为根本，以改革创新为动力，以资源整合为抓手，以提高办学质量和推动内涵发展建设为重点，改善办学条件，优化资源配置，促进协同创新，加强人才队伍建设，进一步增强学校综合办学实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9B3B-2536-4FCC-A9CD-113D6E71E390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4092-B6CA-43AD-818A-50CA8C547F09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980640"/>
            <a:ext cx="2952720" cy="574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、建设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4920" y="2781360"/>
          <a:ext cx="9001080" cy="3484440"/>
        </p:xfrm>
        <a:graphic>
          <a:graphicData uri="http://schemas.openxmlformats.org/drawingml/2006/table">
            <a:tbl>
              <a:tblPr/>
              <a:tblGrid>
                <a:gridCol w="396720"/>
                <a:gridCol w="4361040"/>
                <a:gridCol w="2525760"/>
                <a:gridCol w="887400"/>
                <a:gridCol w="830160"/>
              </a:tblGrid>
              <a:tr h="517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责任单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责任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额（万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武陵山区特色生物种质资源创新研究平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资源与环境科学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义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武陵山片区区域发展与扶贫攻坚协同创新平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商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冷志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武陵山区非物质文化遗产数字化保护与文化产业创新平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文学与新闻传播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法学与公共管理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惠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吴文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00+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子电工基础实验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室与设备管理中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信息科学与工程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物理与机电工程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麻明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鲁荣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伏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环境工程人才培养综合创新实验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资源与环境科学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清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Box 1"/>
          <p:cNvSpPr/>
          <p:nvPr/>
        </p:nvSpPr>
        <p:spPr>
          <a:xfrm>
            <a:off x="395280" y="15588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建设实施项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根据上级文件精神，结合《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中央财政支持地方高校发展专项资金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013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015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年项目建设规划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》和学校建设发展实际，经学校研究决定，按照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教学急需、整合资源、集中财力、确保重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”的原则，建设以下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项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0B20-27E3-4A8A-A168-ED5CB199FE11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5B6C-8532-45E5-B5F5-12D5B60E60A5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0" y="980640"/>
            <a:ext cx="2952720" cy="574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、建设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4920" y="1844640"/>
          <a:ext cx="9074160" cy="4056120"/>
        </p:xfrm>
        <a:graphic>
          <a:graphicData uri="http://schemas.openxmlformats.org/drawingml/2006/table">
            <a:tbl>
              <a:tblPr/>
              <a:tblGrid>
                <a:gridCol w="399960"/>
                <a:gridCol w="4395960"/>
                <a:gridCol w="2546280"/>
                <a:gridCol w="893880"/>
                <a:gridCol w="838080"/>
              </a:tblGrid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责任单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责任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</a:rPr>
                        <a:t>金额（万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文科综合实训基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室与设备管理中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商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文学与新闻传播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法学与公共管理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麻明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政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广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350+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外语实践教学中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外国语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国际交流与公共外语教学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汤敬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宋政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生体质健康实训基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育科学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道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矿产资源综合利用与功能材料制备创新人才培养基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化学化工学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颜文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50+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  计（万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8D0A-BAEC-43E1-A788-89C1BF868B28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8C1D-6667-4DDC-862C-924B267D2E7A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2952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、建设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195588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建设资金使用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严格按照《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中央财政支持地方高校发展专项资金管理办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》和《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吉首大学中央财政支持地方高校发展专项资金项目管理办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》等相关文件精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严格按照《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中央财政支持地方高校发展专项资金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13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015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年项目建设规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》方案编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共建项目和资源整合项目，由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牵头单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责，认证组织讨论，按照上级文件和学校总体要求，科学规范编制预算方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45B7-E7BB-45BB-AC9B-DBEBCC1E0606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459A-25A1-404E-9E58-BEEB0669597E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195588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目预算编制包括中央财政专项资金的支出部分和配套资金，即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中央：地方：学校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7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E507-1B8F-43C2-BA7A-92A929AC6709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D2F-FEB9-4E11-A3B0-B33407EA3385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57200" y="195588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预算内容主要包括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第一部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表格部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按照财教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文件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附件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表格格式填写（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即附表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1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2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3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4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5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由实验室与设备管理中心统一发邮件给相关项目单位负责人，各项目单位在此表上修改，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必须在此表申报的设备范围内进行优化遴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未经同意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不得随意变更或增加一些新的设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D441-F0E3-43EB-9AF5-14497AA5F800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55F7-743D-49F9-BFD7-A44772858FAA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第二部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文字说明部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主要说明预算编制依据，内容包括以下几个方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字左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一）建设依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学科发展、科学研究、实验教学等需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二）建设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主要建设的实验分室或模块，主体建设或购置的设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三）资金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中央财政、地方财政、学校自筹资金数量及比例及用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EFAF-C30D-4199-A461-845678B6DD55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364C-6D32-46F6-8387-C68B08C824AD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177336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预算编制依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一）购置设备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1480" y="2852640"/>
          <a:ext cx="7958160" cy="3273480"/>
        </p:xfrm>
        <a:graphic>
          <a:graphicData uri="http://schemas.openxmlformats.org/drawingml/2006/table">
            <a:tbl>
              <a:tblPr/>
              <a:tblGrid>
                <a:gridCol w="654120"/>
                <a:gridCol w="1042920"/>
                <a:gridCol w="1982880"/>
                <a:gridCol w="609840"/>
                <a:gridCol w="846000"/>
                <a:gridCol w="797040"/>
                <a:gridCol w="2025360"/>
              </a:tblGrid>
              <a:tr h="56700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规格、型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台套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单价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设备总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询价依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92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 gridSpan="3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2" name="圆角矩形标注 5"/>
          <p:cNvSpPr/>
          <p:nvPr/>
        </p:nvSpPr>
        <p:spPr>
          <a:xfrm>
            <a:off x="644400" y="4076640"/>
            <a:ext cx="1335240" cy="1656000"/>
          </a:xfrm>
          <a:prstGeom prst="wedgeRoundRectCallout">
            <a:avLst>
              <a:gd name="adj1" fmla="val 18199"/>
              <a:gd name="adj2" fmla="val -78601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必须跟附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-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顺序对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标注 6"/>
          <p:cNvSpPr/>
          <p:nvPr/>
        </p:nvSpPr>
        <p:spPr>
          <a:xfrm>
            <a:off x="2484360" y="4076640"/>
            <a:ext cx="1366920" cy="1368360"/>
          </a:xfrm>
          <a:prstGeom prst="wedgeRoundRectCallout">
            <a:avLst>
              <a:gd name="adj1" fmla="val -3648"/>
              <a:gd name="adj2" fmla="val -8916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供规格型号及主要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标注 7"/>
          <p:cNvSpPr/>
          <p:nvPr/>
        </p:nvSpPr>
        <p:spPr>
          <a:xfrm>
            <a:off x="457200" y="3357720"/>
            <a:ext cx="8507520" cy="2374920"/>
          </a:xfrm>
          <a:prstGeom prst="wedgeRoundRectCallout">
            <a:avLst>
              <a:gd name="adj1" fmla="val 24962"/>
              <a:gd name="adj2" fmla="val -59583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为重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设备：对于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万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上的大型设备，应提供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可行性论证报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设备选型说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同类仪器不同品牌型号的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价格比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定价说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万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下的同类型设备可成批次说明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预算依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如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询价或定价依据的说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同类设备近期采购价格或市场价格等。每台设备提供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以上公司的价格和联系方式，最后进行定价说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书：说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定价依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如近期学校图书采购均价或市场询价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软件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说明软件开发平台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市场定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开发的工作量测算，人工成本及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核算依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标注 9"/>
          <p:cNvSpPr/>
          <p:nvPr/>
        </p:nvSpPr>
        <p:spPr>
          <a:xfrm>
            <a:off x="2124000" y="6019920"/>
            <a:ext cx="3959280" cy="288720"/>
          </a:xfrm>
          <a:prstGeom prst="wedgeRoundRectCallout">
            <a:avLst>
              <a:gd name="adj1" fmla="val 79217"/>
              <a:gd name="adj2" fmla="val -6412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设备总经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项目总经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*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2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48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396E-F9E2-4196-B0E4-0F9148434B1A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DF54-956D-4A16-965E-C7CED2657D1E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" y="177336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二）环境改造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2549520"/>
          <a:ext cx="8229600" cy="3400560"/>
        </p:xfrm>
        <a:graphic>
          <a:graphicData uri="http://schemas.openxmlformats.org/drawingml/2006/table">
            <a:tbl>
              <a:tblPr/>
              <a:tblGrid>
                <a:gridCol w="1603440"/>
                <a:gridCol w="1603440"/>
                <a:gridCol w="1214280"/>
                <a:gridCol w="1214640"/>
                <a:gridCol w="1039680"/>
                <a:gridCol w="1041480"/>
                <a:gridCol w="512640"/>
              </a:tblGrid>
              <a:tr h="84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验分室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改造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计算标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金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万元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44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圆角矩形标注 8"/>
          <p:cNvSpPr/>
          <p:nvPr/>
        </p:nvSpPr>
        <p:spPr>
          <a:xfrm>
            <a:off x="2195640" y="4653000"/>
            <a:ext cx="3816360" cy="431640"/>
          </a:xfrm>
          <a:prstGeom prst="wedgeRoundRectCallout">
            <a:avLst>
              <a:gd name="adj1" fmla="val 111750"/>
              <a:gd name="adj2" fmla="val 213393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环境改造经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项目总经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*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9360" y="11970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日期占位符 3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9296-98D8-4AC3-A1A7-D9BDA59B09F2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灯片编号占位符 4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E33C-B0D0-4E85-9B98-9B59831AF8F2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548080" y="1711080"/>
            <a:ext cx="4255920" cy="4362840"/>
          </a:xfrm>
          <a:prstGeom prst="rect">
            <a:avLst/>
          </a:prstGeom>
          <a:solidFill>
            <a:srgbClr val="3366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一、组 织 机 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二、指 导 思 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三、建 设 项 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四、项 目 编 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五、进 度 安 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六、文 本 格 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七、工 作 要 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325680" y="981000"/>
            <a:ext cx="2398680" cy="647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344-B5D5-460C-BB6A-EEB772EE2DBC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16EF-0562-49C6-9B0C-BD9F3CDCC6B1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920" y="982800"/>
            <a:ext cx="3168720" cy="536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项目编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57200" y="177336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目资金管理措施与预期效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一）项目资金管理措施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见模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二）预期绩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必须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具体、明确、量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主要以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说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教学科研效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主要阐述面向哪些专业、服务学生人数、开设实验课程、开设实验项目数及技能培养等方向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700" spc="-1" strike="noStrike">
                <a:solidFill>
                  <a:srgbClr val="0000ff"/>
                </a:solidFill>
                <a:latin typeface="Arial"/>
              </a:rPr>
              <a:t>可以从以下几个方面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进行论述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新增设备台套数，总经费是多少，达到什么程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实验项目数：新增设计性实验项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个，综合性实验项目 个，创新实验项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个，改进实验项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服务学生数：学生科研、开放，研究性、创新性项目开展情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校内开放情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科研产出的预期效益：如培养研究生、发表论文、申报课题，建设平台等方面的效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社会效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主要阐述为</a:t>
            </a:r>
            <a:r>
              <a:rPr b="0" lang="zh-CN" sz="1700" spc="-1" strike="noStrike">
                <a:solidFill>
                  <a:srgbClr val="0000ff"/>
                </a:solidFill>
                <a:latin typeface="Arial"/>
              </a:rPr>
              <a:t>地方服务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产生的效益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8B6-72D5-4E61-A762-3BBC3AABD671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8949-6BDE-4889-A83E-8D824CE11EDA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920" y="980640"/>
            <a:ext cx="3168720" cy="647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五、进度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989000"/>
          <a:ext cx="9036000" cy="3743640"/>
        </p:xfrm>
        <a:graphic>
          <a:graphicData uri="http://schemas.openxmlformats.org/drawingml/2006/table">
            <a:tbl>
              <a:tblPr/>
              <a:tblGrid>
                <a:gridCol w="538200"/>
                <a:gridCol w="1850760"/>
                <a:gridCol w="4183200"/>
                <a:gridCol w="2463840"/>
              </a:tblGrid>
              <a:tr h="41940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完成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工作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责任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840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2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项目预算编制安排工作会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实验室与设备管理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2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-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2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项目单位编制项目预算方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各项目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840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2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学校组织专家对编制说明评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实验室与设备管理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116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2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项目单位根据专家评审意见进行修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各项目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840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预算编制方案审核汇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实验室与设备管理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228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预算编制方案上报省财政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财务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408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项目用房落地安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资产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99E6-3B81-4DCE-BEA4-1A098BD63FEB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2AB9-5DC6-4F3C-972C-A0293E0642CE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920" y="980640"/>
            <a:ext cx="3168720" cy="647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五、进度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8000" y="2060640"/>
          <a:ext cx="9036000" cy="3759120"/>
        </p:xfrm>
        <a:graphic>
          <a:graphicData uri="http://schemas.openxmlformats.org/drawingml/2006/table">
            <a:tbl>
              <a:tblPr/>
              <a:tblGrid>
                <a:gridCol w="538200"/>
                <a:gridCol w="1850760"/>
                <a:gridCol w="4183200"/>
                <a:gridCol w="2463840"/>
              </a:tblGrid>
              <a:tr h="35856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完成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工作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责任单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64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项目单位编制实施方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实验室与设备管理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116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编制招标文件，上报购置计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实验室与设备管理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资产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64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-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用房环境改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后勤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080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设备招投标、合同签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资产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实验室与设备管理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64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设备安装调试及试运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各项目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12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设备验收、入库、国库集中支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资产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财务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实验室与设备管理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640">
                <a:tc>
                  <a:txBody>
                    <a:bodyPr lIns="34920" rIns="34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仿宋"/>
                          <a:ea typeface="宋体"/>
                        </a:rPr>
                        <a:t>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项目总结及绩效评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仿宋"/>
                        </a:rPr>
                        <a:t>实验室与设备管理中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F3A4-B55B-4F02-878E-0514BEE66CE8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E3F3-82DD-48AC-ABB1-D17BAEC6764C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3132000" cy="647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六、文本格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95280" y="1701720"/>
            <a:ext cx="8229600" cy="4680000"/>
          </a:xfrm>
          <a:prstGeom prst="rect">
            <a:avLst/>
          </a:prstGeom>
          <a:solidFill>
            <a:srgbClr val="80808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文本材料要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上交文档要求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每个项目单位上交两个文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项目预算编制说明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word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格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建设项目计划表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excel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格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7F8C-7BB8-4CB3-AF14-0F3F4270E888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21E-0E65-4C12-B93E-8CD28FB43633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3132000" cy="647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六、文本格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5280" y="1701720"/>
            <a:ext cx="8229600" cy="4680000"/>
          </a:xfrm>
          <a:prstGeom prst="rect">
            <a:avLst/>
          </a:prstGeom>
          <a:solidFill>
            <a:srgbClr val="80808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验管理中心网站下载材料，材料清单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吉首大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度中央财政支持地方高校发展专项资金项目预算及实施工作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项目单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上报规划方案最终稿（申报书、论证报告及项目计划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度中央财政支持地方高校发展专项资金项目预算编制说明（模板）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某项目预算编制资料（模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吉首大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中央财政支持地方高校发展专项资金建设项目规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9492-D6F7-4601-A74D-F566EB6F415B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F761-F491-4346-9E92-1456E02AEB41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3132000" cy="647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六、文本格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01720"/>
            <a:ext cx="8229600" cy="4680000"/>
          </a:xfrm>
          <a:prstGeom prst="rect">
            <a:avLst/>
          </a:prstGeom>
          <a:solidFill>
            <a:srgbClr val="80808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材料上交时间及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材料审核通过后，学院领导签字盖章上交纸质文档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子文档发到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陈斌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邮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截至时间：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6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日上午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点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0182-9DAB-4618-BA81-08F47188E984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46A2-5016-46F1-BD5F-ACA95C2D25A2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3132000" cy="647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六、文本格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95280" y="1701720"/>
            <a:ext cx="8229600" cy="4680000"/>
          </a:xfrm>
          <a:prstGeom prst="rect">
            <a:avLst/>
          </a:prstGeom>
          <a:solidFill>
            <a:srgbClr val="80808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格式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项目预算编制说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本格式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级标题：小三，黑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级标题：四号仿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gb312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级、四级标题：四号仿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gb3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文文字部分：四号仿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gb3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行间距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磅，段前段后都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页面设置：上下左右都为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格内文字：小四仿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gb3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单倍行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建设项目计划表（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附表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-4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字格式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宋体，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号，单倍行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E6CE-3693-4D96-9A63-72877387D578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25BA-B00B-424D-98AE-104FC7B50323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2987640" cy="576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、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171468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加强领导，高度重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项目建设单位领导要高度重视项目实施方案的制定工作，组织骨干力量、明确分工，责任到人，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每个项目安排一位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项目总负责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其中的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每个子项目安排一位技术负责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并对项目实施的各个环节进行精心组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认真细致，周密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对项目建设内容必须优先确保和满足本科教学需要， 对设备的购置必须确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本科教学最基础、最急需、最实用、最广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设备，设备选型在满足实验教学的基础上，适度超前，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严格控制高档、高规格、锦上添花的设备，严格控制摄像机、照相机、笔记本及电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购置，设备定价合理，符合市场行情，确保项目经费发挥最大效益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B8C2-1398-497A-BC79-072F7FE6B2E0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13BB-D42D-4ACE-B420-7E30B4636262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资源共享，提高效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提倡资源共享，减少重复建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特别是要加强对大型设备购置的论证，要避免浪费、避免大型精密仪器设备的重复购置，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实现大型设备的开放共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提高设备利用率，经充分论证，确实需要购置的大型仪器设备，由学校统一存放、集中管理，充分发挥项目经费的效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确保质量，按时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各个项目实施单位、牵头单位和相关职能部门必须按照学校总体日程安排，认真负责，狠抓落实，按时完成各项工作任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981000"/>
            <a:ext cx="2987640" cy="576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、工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3698-8390-480B-B01A-C1E2CC95BD27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4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2555-6C01-4BA8-AB36-FBECADC2D694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未命名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34920" y="3867120"/>
            <a:ext cx="9036000" cy="2657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6453360"/>
            <a:ext cx="9144000" cy="7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041640" y="2138400"/>
            <a:ext cx="35334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3300"/>
                </a:solidFill>
                <a:latin typeface="黑体"/>
                <a:ea typeface="黑体"/>
              </a:rPr>
              <a:t>谢 谢 大 家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F705-5F00-432A-92EE-210293059EDB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2C9E-6FEC-4B5C-AB54-B57D4FD7BC9B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982800"/>
            <a:ext cx="3276720" cy="5745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组织机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95280" y="1557360"/>
            <a:ext cx="85694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领导小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组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 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白晋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副组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曹晓鲜   黎奇升   钟海平   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成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 王先述    张兰芳   麻明友  黎克双  龙   斌  冷志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唐新平  卜爱华     颜文斌   唐宗湘  田  宇   罗惠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吴文平   宋政余    汤敬安  周道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主要职责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负责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项目实施的组织领导、指导、督办和校内各相关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的统一协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领导小组下设中央财政支持地方高校发展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项资金项目建设办公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简称项目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项目办主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    麻明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项目办副主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张兰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项目办成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冷志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唐新平  黎克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卜爱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44FD-D108-4342-BF07-91B3EE118AFA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180D-5CFA-4482-A3F8-38438598AC9D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57200" y="127008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工作机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综合协调小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由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实验室与设备管理中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牵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主要职责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落实学校领导小组工作部署，统筹安排全校各类项目的预算及实施工作，协调其他各工作小组的工作，协调解决项目预算及实施中出现的各类具体问题；制定《吉首大学中央财政支持地方高校发展专项资金管理办法》，负责联系上级财政部门，负责向上级财政部门报送项目预算编制说明方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成   　员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验室与设备管理中心、财务处负责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责任领导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黎奇升  副校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674C-9033-4A0E-A93F-D8386E003965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CA1D-FEE8-417B-BE4B-214EE0612167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省级重点学科建设项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组，由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发展规划与学科建设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牵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主要职责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织和指导相关单位制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省级重点学科建设项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算及实施方案，负责该类项目预算及实施方案的审核，负责对该类项目具体预算及实施过程的指导、协调、检查、督促与质量监控，组织完成项目总结与绩效评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成 　  员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省级重点学科项目建设单位负责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责任领导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钟海平  副校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049C-EF46-454E-85EB-6CD9C0672AF4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235A-18B4-44A7-A358-6560988662CF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3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教学实验平台建设项目小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由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实验室与设备管理中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牵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主要职责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织和指导相关单位制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教学实验平台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设项目预算及实施方案，负责该类项目预算及实施方案的审核，负责对该类项目具体预算及实施过程的指导、协调、检查、督促与质量监控，组织完成项目总结与绩效评估。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成 　  员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学实验平台类项目建设单位负责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责任领导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黎奇升  副校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E8B6-3579-4280-9613-FA7F29F90503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7522-CDB6-48FE-B3C3-875F0BC5B516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3)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科研平台和专业能力实践基地建设项目小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由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教务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牵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主要职责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组织和指导相关单位制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科研平台和专业能力实践基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类建设项目预算及实施方案，负责该类项目预算及实施方案的审核，负责对该类项目具体预算及实施过程的指导、协调、检查、督促与质量监控，组织完成项目总结与绩效评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成  　  员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科研平台和专业能力实践基地类项目建设单位负责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责任领导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黎奇升  副校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CBE4-3506-4BB8-908C-CA28FDAB6735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A5B2-0846-46B1-8B11-66D7E6ACA80C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用房及后勤保障小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由资产管理处牵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主要职责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负责项目实施的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用房调配、水电供应、水电改造、维修改造工程、配套环境建设及与项目相关的搬迁工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　责任领导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钟海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副校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副校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日期占位符 1"/>
          <p:cNvSpPr/>
          <p:nvPr/>
        </p:nvSpPr>
        <p:spPr>
          <a:xfrm>
            <a:off x="-31680" y="6524640"/>
            <a:ext cx="2371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F584-45B0-44F5-A92A-EE4E132AA760}" type="datetime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2"/>
          <p:cNvSpPr/>
          <p:nvPr/>
        </p:nvSpPr>
        <p:spPr>
          <a:xfrm>
            <a:off x="8209080" y="6524640"/>
            <a:ext cx="90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DF53-0807-4851-B5B5-729B881DCE9C}" type="slidenum"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1484280"/>
            <a:ext cx="82915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专家小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组   长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：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游   俊    白晋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副组长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：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曹晓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黎奇升   钟海平    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成   员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由各类项目的牵头单位从校学术委员会委员和相关项目的专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中抽选、提出建议名单，由组长审定，以及校外专家成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项目评审时项目领导小组均需到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主要职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财政部和省财政厅的文件精神，结合学校实际，按照项目建设规划，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对项目预算及实施方案进行评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cb</cp:lastModifiedBy>
  <dcterms:modified xsi:type="dcterms:W3CDTF">2015-05-24T06:39:48Z</dcterms:modified>
  <cp:revision>1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363</vt:lpwstr>
  </property>
</Properties>
</file>